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26E3-8C73-41F5-92FC-F270577C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02B-986D-49F0-B39D-8F4FBBFD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4AE-E570-4FAD-B940-3AF25A82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EF5-F87B-4B60-8BB3-DB4D1396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ED2-A0B8-4DE8-A1F7-7864F898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A95-E87C-4641-8475-3EC73F6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691-3404-42AB-94A5-6323F531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7D7-E7D6-481E-9D5D-C92C16AF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2A2-04B8-44F5-A85A-748CE760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17C-A577-4B62-A835-C7B522C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044E-4D71-46AB-BFE2-FC8DEC9B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444-1673-4DFC-B2D2-A6C7433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1946-5733-4946-A9C0-FF5CAE037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114480"/>
          <a:ext cx="8686800" cy="6514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480"/>
                    <a:ext cx="8686800" cy="65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95400"/>
          <a:ext cx="8610480" cy="6457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5400"/>
                    <a:ext cx="86104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4614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5105520"/>
            <a:ext cx="2895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of Egyptian 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ough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320" y="38160"/>
          <a:ext cx="8991360" cy="6743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160"/>
                    <a:ext cx="899136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1:25:11Z</dcterms:created>
  <dc:creator>RDPL CLP</dc:creator>
  <dc:description/>
  <dc:language>en-US</dc:language>
  <cp:lastModifiedBy>ripkensa</cp:lastModifiedBy>
  <dcterms:modified xsi:type="dcterms:W3CDTF">2009-10-18T18:08:21Z</dcterms:modified>
  <cp:revision>1</cp:revision>
  <dc:subject/>
  <dc:title>PowerPoint Presentation</dc:title>
</cp:coreProperties>
</file>